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drumroll.wav" ContentType="audio/x-wav"/>
  <Override PartName="/ppt/media/applause.wav" ContentType="audio/x-wav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CB8-06B6-4327-A75A-CA130BF8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169-FB1F-43D0-AA9B-9C148AD7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2AE7-BDF8-412E-9385-F0D5DA67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930-7FCE-4CCF-A6AD-50944742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182F-4988-4BA5-A0FD-C9D44FDA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C60E-A3E9-42D2-9E28-D19E4EE9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8D2F-E4DC-4995-ACE0-3461C8B8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C48A-8777-41DD-816D-7B401C86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776CF-D28B-4DB5-BA05-1AD04F3B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40D1-D10B-4CFA-8739-A69598C0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61E5-F44D-44B1-AC24-11DD61FB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286-FDDD-42B9-9D7F-54281258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8DBE-330A-4BF9-AB03-D01A65A2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F119-D0DA-41CF-AE04-032A605D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C6A1-41B2-4DF4-B1AB-64975052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A911-BC78-4500-B95D-A5753BBD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14C6-195D-4117-8242-AEF62F4B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832-88C1-4738-8C49-84F801A8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525-F037-4B76-A2A7-12A8AF25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4F6-2A4F-426F-8499-0E3C0456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943-85CD-4E6C-983E-172CC6C9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838-55E1-4C9F-9AB2-8447919B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DC0-BC39-4C18-99EA-FDC7ABCA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193-D3A6-4ECF-B3F5-2B822A08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D63B-3A01-4F1B-A90C-9E5104EA4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0130-4ED4-4118-8329-ED7EF0B33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olfson.ox.ac.uk/~outdoor/pictures/slides/Sea-view%20in%20Pembrokshire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Island of the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lue Dolphins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1 Week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9" descr="Island of the Blue Dolphins"/>
          <p:cNvPicPr/>
          <p:nvPr/>
        </p:nvPicPr>
        <p:blipFill>
          <a:blip r:embed="rId1"/>
          <a:stretch/>
        </p:blipFill>
        <p:spPr>
          <a:xfrm>
            <a:off x="6019920" y="380880"/>
            <a:ext cx="2896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ran out on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eadlan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the island to meet Dad’s shi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nd on a clif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nd that sticks out into the s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066680" y="4419720"/>
            <a:ext cx="72392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sey caught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ellfis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her net while she was fis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cklace made of shel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sea creature with a shel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066680" y="4419720"/>
            <a:ext cx="6705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hoped that the bear was long gone since we camped by his emp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a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idden trai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imal’s de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743200" y="4572000"/>
            <a:ext cx="3276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uffed animal had bee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gnaw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n by the playful pupp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ew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ugge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2666880" y="3733920"/>
            <a:ext cx="35053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saw brown fish that were almost hidden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kelp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ral reef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awe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124080" y="4343400"/>
            <a:ext cx="26672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natives u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inew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rom animals to make cloth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ndons connecting muscle and bo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ol from shee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57200" y="3886200"/>
            <a:ext cx="8001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were told to stay far back from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av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istant mountai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ep valle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286000" y="4343400"/>
            <a:ext cx="3581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52280" y="1295280"/>
            <a:ext cx="3581640" cy="1067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33520" y="2666880"/>
            <a:ext cx="396216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57200" y="3886200"/>
            <a:ext cx="35812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371600" y="5334120"/>
            <a:ext cx="304812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800600" y="1371600"/>
            <a:ext cx="3733920" cy="9144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4876920" y="32767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5029200" y="5105520"/>
            <a:ext cx="3733920" cy="99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a water animal with a shel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6" descr="MPj04222130000[1]"/>
          <p:cNvPicPr/>
          <p:nvPr/>
        </p:nvPicPr>
        <p:blipFill>
          <a:blip r:embed="rId1"/>
          <a:stretch/>
        </p:blipFill>
        <p:spPr>
          <a:xfrm>
            <a:off x="3429000" y="43434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MCj04352110000[1]"/>
          <p:cNvPicPr/>
          <p:nvPr/>
        </p:nvPicPr>
        <p:blipFill>
          <a:blip r:embed="rId2"/>
          <a:stretch/>
        </p:blipFill>
        <p:spPr>
          <a:xfrm>
            <a:off x="6705720" y="4267080"/>
            <a:ext cx="18414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200040" y="2362320"/>
            <a:ext cx="5181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ny of various large, tough, brown seaweed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038480" y="68580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6" descr="stalked kelp Ecklonia radiata"/>
          <p:cNvPicPr/>
          <p:nvPr/>
        </p:nvPicPr>
        <p:blipFill>
          <a:blip r:embed="rId1"/>
          <a:stretch/>
        </p:blipFill>
        <p:spPr>
          <a:xfrm>
            <a:off x="152280" y="60948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 narrow ridge of high land jutting out into the wate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191120" y="990720"/>
            <a:ext cx="4038480" cy="1143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7" descr="Sea-view%20in%20Pembrokshi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45720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971800" y="2362320"/>
            <a:ext cx="5410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den or resting place of a wild animal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MCAN04487_0000[1]"/>
          <p:cNvPicPr/>
          <p:nvPr/>
        </p:nvPicPr>
        <p:blipFill>
          <a:blip r:embed="rId1"/>
          <a:stretch/>
        </p:blipFill>
        <p:spPr>
          <a:xfrm>
            <a:off x="4648320" y="5029200"/>
            <a:ext cx="18270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657240" y="2362320"/>
            <a:ext cx="4724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 long, deep, narrow, valley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733920" y="457200"/>
            <a:ext cx="373356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9" descr="Drainage Ravine"/>
          <p:cNvPicPr/>
          <p:nvPr/>
        </p:nvPicPr>
        <p:blipFill>
          <a:blip r:embed="rId1"/>
          <a:stretch/>
        </p:blipFill>
        <p:spPr>
          <a:xfrm>
            <a:off x="0" y="1219320"/>
            <a:ext cx="3759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76360" y="2362320"/>
            <a:ext cx="5105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itten at or worn away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581280" y="5335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8120" y="2362320"/>
            <a:ext cx="548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endon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962520" y="7621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28600" y="1219320"/>
            <a:ext cx="2666880" cy="39621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naw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eadlan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kel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ai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v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llfis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new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500239-fx10"/>
          <p:cNvPicPr/>
          <p:nvPr/>
        </p:nvPicPr>
        <p:blipFill>
          <a:blip r:embed="rId1"/>
          <a:stretch/>
        </p:blipFill>
        <p:spPr>
          <a:xfrm>
            <a:off x="4419720" y="3809880"/>
            <a:ext cx="238104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gormanl</cp:lastModifiedBy>
  <dcterms:modified xsi:type="dcterms:W3CDTF">2012-10-02T11:44:08Z</dcterms:modified>
  <cp:revision>15</cp:revision>
  <dc:subject/>
  <dc:title>Frindle Vocabulary Words</dc:title>
</cp:coreProperties>
</file>